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9C6-F95E-429E-B46F-90634C8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E06-3D86-4DBC-A69B-B4A60E4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AA3-6AE1-4576-A2D4-061441BF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D9E-0065-4A64-8907-1FF3A66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803-5A18-4D0C-AA57-7E74D257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004-2731-4D74-A0AC-98F9628B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AD4F-1BE5-4B99-9F99-3047B276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8E3-23DB-4E02-8290-6562E1D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3D16-FA1D-4BFC-82C2-02D11E83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75E-5434-4FA5-82BC-186B8A62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6CF-9AAC-4A7A-BF79-9BB69FE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ADB-09C2-4FCE-B1E6-570C6FA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490-8A27-4E22-B728-E7E4A57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2FD-C226-4D4A-B5F9-A4E84E1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8E9-5D0A-40BD-A6B4-21BA473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D84-A599-46E3-86C0-879FAC03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F0A-2D36-419C-B600-C2506EAE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956F-8C20-4971-AD6D-FF0D2BD4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B781-D734-40C5-A1AE-D4D6D419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E033-EFB2-44AA-8E33-7B6CD12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3219-F685-4B6F-B438-D3B46A48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11BA-6365-4231-9A27-59416E4A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E54-A99E-44B3-990C-8A76D38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67B5-6FD6-4BD5-9E49-8CAF7C7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5407-5701-4829-AC39-6FF34E89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051D-4D62-45B0-B09E-6426C76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E0BA-7A60-46CC-B9F2-62BF9BF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E510-97C1-4A6B-8F42-D4AD31EE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994E-AC29-4987-BA84-52333FEE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3904-5F4B-4AD3-9906-F3137995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756A-1B64-4D67-8907-B4700EB2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399D-EC06-44B0-B8CE-DCE245CD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E32B-D315-4D71-AC80-CA3C3CB1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41B-9456-43E5-B607-CD013AA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6320-406F-45DF-8987-57CB2289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E879-0EDA-45F5-9C40-0AE2179D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F024-8C02-4F5D-8667-49F0B380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B5FC-E85F-40D4-863F-AC43EAD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C201-8D06-4198-9D9D-E68E8F2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0867-6F1D-405E-AD31-5B479EF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A4BB-0C7D-40E7-BD91-0FE924BF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F66C-C892-41AD-95CA-BA84050C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17DE-4B8A-417C-BE6A-B7BB50C8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3A3E-0839-405E-B868-65F7C966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713-7F6F-4277-B51C-52A49AE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948E-0742-46D8-A9CD-550B974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2F70-69CB-440C-AB46-A8BE5F8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07B9-091D-4C45-88DB-7C50ECF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343F-DD77-41D8-A686-AE52201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5989-52A7-489F-928B-6B47883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E28D-6B3F-4CB7-A40F-288CD86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DCAE-4D83-4A23-9A8A-96804F4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8D77-BEE1-4467-A80D-3B6CA12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E8F2-D110-4B43-B51B-4FCE8375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D3E3-127C-4DBC-BA00-ECB2481D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5A6-41FA-44B6-AAF8-FFAFBDA9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37BA-9E57-4EE9-95E4-7E77E548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3957D-2C11-4D4F-B48E-082D1AD1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394C-9F1E-4AD0-A89A-79CF240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4846-BE91-437F-8AF8-B7AB2AEB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F19F-1EBC-44F2-B84A-EA16924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3AC3-DE07-49F1-B1A2-FF77BC7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E3F2-4AEE-4130-A159-A200498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55C6-B541-4477-B455-10E6210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DCD2-566E-45F3-B550-0B89F5E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DF5B-54C1-4E6C-9A49-5145506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ABF-86A9-4452-9635-33540CF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78B6-8BF8-42A2-93B5-F70BD308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41E9-FD1C-41F2-8BF8-0B09E09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1449-7520-431B-91B1-C7A98D4D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7C1F-096B-4E7C-9429-A24EA799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4236B-9C0C-40EC-9A42-A34740D8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5A10-7076-443D-AC99-80B199C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8D008-C312-448D-AA79-8570548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655C8-2A5B-474F-8E68-3BAEB1E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EEF22-48F0-4357-8255-FB62E9E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BF3B-BEAB-4B65-8DC4-CC95D7F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B66-5B48-4BDE-ACEA-271675F3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9E9D-8C20-40A3-B781-CB3E132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260A-8F6A-4E26-83FD-88E22A9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A08F-2908-4A1D-9C23-02F9A87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DE7C-4F81-49C9-ADC2-B97FFA6F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FF53-3A15-48D6-AB06-F8CCA25C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A2E5-C893-4943-9C91-46CAA645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9917-2557-4A47-8124-E86FC116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A5AB0-CB76-4B55-B370-5E92D692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3E73B-9BA3-4C97-903E-7468262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4F69-D686-4BB2-8858-D11A504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A10-354E-493C-B587-531CD06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6C68-495F-446F-B7C8-EECBB31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A29CA-75F5-4AE8-BCE7-5023CC10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1377-5B39-45F4-974F-50E6DFB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E66D-D84A-4341-9297-A89EC2A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F484-F8D5-4F0E-8FB4-94BCE5D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92D23-CED0-4781-A928-8FBE444E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0820-AD57-447C-BB59-459214EC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7E7-9861-4866-BD86-9C802D2B35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7AB-3944-4BE1-828C-89183FA9AC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888-6882-41CB-8609-C62D4A57E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E2E-341E-455C-9775-27D4AD49E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3553-AE42-45EA-B4F2-0BD0D45C5A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DCB-222E-4BEC-B703-52B2504700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E2C-322B-42B8-842F-305E86EBC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23A-776C-4AEF-ABAE-964869F50A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6480" y="212076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9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2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7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00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КОНТРОЛНА ИСПИТИВАЊА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29310</a:t>
            </a:r>
            <a:r>
              <a:rPr b="0" lang="sr-Latn-CS" sz="23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ОПШТ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2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ВРЕМЕ ВЕЗИВА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33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ПРОМЕНА ЗАПРЕМИ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340</a:t>
            </a:r>
            <a:r>
              <a:rPr b="0" lang="sr-Latn-CS" sz="27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ПРИТИСНА ЧВРСТОЋ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50</a:t>
            </a:r>
            <a:r>
              <a:rPr b="0" lang="sr-Latn-CS" sz="27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ИЗДВАЈАЊЕ ВОД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6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МОЋ РАЗЛИВАЊ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1ОПШТЕ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2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ТРАЖЕНА МЕТОДА ЗА ОДРЕЂИВАЊЕ МОЋИ РАЗЛИВАЊ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400 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ИЗВОЂЕ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600 ГАРАН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700 ОБРАЧУН  И  ПЛАЋ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8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РЕФЕРЕНТНИ СТАНДАРД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920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У Пројекту санације / реконструкције моста Газела применити подливке са великом моћи разливања  - 600 мм  при висини подливке од 40  мм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4 часа:      минимум 3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8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dana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:      минимум 5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Подливка, након очвршћавања, мора да задржи, као минимум, запремину коју је имала приликом уградњ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0" y="490680"/>
            <a:ext cx="915516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C.K6.020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ruće valjani čelici. Betonski čelici. </a:t>
            </a: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PS C.K6.120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udevaljani čelici. Betonski čelici.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Oblik i mer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Arial"/>
              </a:rPr>
              <a:t>SRPS U.M 1.091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7eea"/>
                </a:solidFill>
                <a:latin typeface="Arial"/>
              </a:rPr>
              <a:t>Građevinske zavarene armature mrež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8d01"/>
                </a:solidFill>
                <a:latin typeface="Arial"/>
              </a:rPr>
              <a:t>SRPS U.M 1.092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8d01"/>
                </a:solidFill>
                <a:latin typeface="Arial"/>
              </a:rPr>
              <a:t>Bi-armatura. </a:t>
            </a:r>
            <a:r>
              <a:rPr b="0" lang="es-CR" sz="2400" spc="-1" strike="noStrike">
                <a:solidFill>
                  <a:srgbClr val="c58d01"/>
                </a:solidFill>
                <a:latin typeface="Arial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0" y="562680"/>
            <a:ext cx="9144000" cy="631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1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1: Skele - Zahtevi za izvođenje i projek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2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2: Informacije o materija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3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ivremena radna oprema - Deo 3: Ispitivanje optereće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SRPS ENV 13670-1 : 2010</a:t>
            </a: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 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Izvođenje betonskih konstrukcija – Deo 1: Op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EN 1090-1 i EN 1090-2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Izvo</a:t>
            </a:r>
            <a:r>
              <a:rPr b="1" lang="sr-Latn-C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đenje čeličnih 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09480"/>
            <a:ext cx="76932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eb8803"/>
                </a:solidFill>
                <a:latin typeface="Lucida Sans Unicode"/>
              </a:rPr>
              <a:t>Kod pravilno organizovane projektne dokumentacije, Tehničke specifikacije treba da predhode predmeru i predračunu radova. Pritom, mora postojati jasna veza između ova tri dela projekta, tj. nomenklatura koja je korišćena kod izrade tehničkih specifikacija treba da se pojavi ikod predmerskih odnosno predračunskih pozicija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28240"/>
            <a:ext cx="8229600" cy="635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Latn-CS" sz="2400" spc="-1" strike="noStrike">
                <a:solidFill>
                  <a:srgbClr val="002060"/>
                </a:solidFill>
                <a:latin typeface="Lucida Sans Unicode"/>
              </a:rPr>
              <a:t>Svaka pozicija, opisana u tehničkim specifikacijama mora da ima jednoznačno definisane sledeće element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Rad na koji se odnosi pozic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Tražena (uslovljena) tehnologija izvodjenja predmetnog r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bezbednost i zdravlje ljudi na radu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zaštitu životne sredine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Način obračuna  (napr. m2) – </a:t>
            </a:r>
            <a:r>
              <a:rPr b="0" lang="sr-Latn-CS" sz="2400" spc="-1" strike="noStrike">
                <a:solidFill>
                  <a:srgbClr val="feb80a"/>
                </a:solidFill>
                <a:latin typeface="Lucida Sans Unicode"/>
              </a:rPr>
              <a:t>svi elementi koji su obuhvaćeni obračunskom jedinicom moraju biti taksativno navedeni (napr. nabavka materijala, transport, gradilišna manipulacija, ugradnja, konačna ispitivanja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Garan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Svaki element obuhvaćen u tački 5) mora biti povezan sa odgovarajućim standardom (ako postoji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655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Lucida Sans Unicode"/>
              </a:rPr>
              <a:t>MASTERFORMAT ™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Lucida Sans Unicode"/>
              </a:rPr>
              <a:t>2004 EDITION NUMBERS &amp; TITL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601720" y="310788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STERFORMAT 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EDITION NUMBERS &amp;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504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20000 </a:t>
            </a:r>
            <a:r>
              <a:rPr b="0" lang="en-US" sz="3600" spc="-1" strike="noStrike">
                <a:solidFill>
                  <a:srgbClr val="ff0000"/>
                </a:solidFill>
                <a:latin typeface="Lucida Sans Unicode"/>
              </a:rPr>
              <a:t>  </a:t>
            </a: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БЕТОНСКИ РАДОВИ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001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20060</a:t>
            </a:r>
            <a:r>
              <a:rPr b="0" lang="sr-Latn-CS" sz="27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ГАРАНЦИЈА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0100 СКЕЛЕ И ОПЛА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21000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АРМАТУР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21200 ОБРАЧУН И ПЛАЋАЊЕ</a:t>
            </a:r>
            <a:r>
              <a:rPr b="1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12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КЛАСИЧНА (ЧЕЛИЧНА) АРМАТУРА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1220 МИКРО  АРМАТУРА ОД  СТАКЛЕНИХ / ПОЛИПРОПИЛЕНСКИХ  ВЛАК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29000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ПОДЛИВКЕ 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0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29030</a:t>
            </a:r>
            <a:r>
              <a:rPr b="0" lang="sr-Latn-CS" sz="2700" spc="-1" strike="noStrike">
                <a:solidFill>
                  <a:srgbClr val="0099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УСЛОВ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29100 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ВРСТЕ ПОДЛИВКИ</a:t>
            </a:r>
            <a:r>
              <a:rPr b="0" lang="en-US" sz="26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1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СУВЕ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29120</a:t>
            </a:r>
            <a:r>
              <a:rPr b="0" lang="sr-Latn-CS" sz="26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ПОДЛИВКЕ СА АЛУМИНИЈУМСКИМ ОКСИДОМ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9130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ПОДЛИВКЕ СА АГРЕГАТОМ ОД ГВОЖЂ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14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ПОДЛИВКЕ СА ВАЗДУШНИМ МЕХУРИЋИМ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Lucida Sans Unicode"/>
              </a:rPr>
              <a:t>29150ПОДЛИВКЕ СА ЕКСПАНЗИОНИМ ЦЕМЕНТИМА 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6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ЕПОКСИ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2918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ФАБРИЧКИ ПРИПРЕМЉЕНЕ МЕШАВИНЕ ЗА ПОДЛИВКЕ СА ХИДРАУЛИЧКИМ ЦЕМЕНТИМА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58:06Z</dcterms:created>
  <dc:creator>C&amp;N</dc:creator>
  <dc:description/>
  <dc:language>en-US</dc:language>
  <cp:lastModifiedBy>Korisnik</cp:lastModifiedBy>
  <dcterms:modified xsi:type="dcterms:W3CDTF">2012-04-22T16:06:02Z</dcterms:modified>
  <cp:revision>12</cp:revision>
  <dc:subject/>
  <dc:title>   TEHNIČKE SPECIFIKACIJE</dc:title>
</cp:coreProperties>
</file>